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CEEDC-192D-41B0-B637-8598C87CFA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F8B00-D850-4B9B-87D9-0AC03EE69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020E4-BCB8-4F1D-94E9-878C87E7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04FA4-8574-4418-8514-B4B3C97ACD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2FCA0-D755-49D3-9B30-CB984D438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8CD86-6DA7-4078-AA0E-313F9B443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324F1-53D2-48A3-A91D-ADF17096A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F85C5-F383-474E-A579-296B5C2AA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4E998-C830-449A-97E5-193D4ACF8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C7A83-628E-4734-8E21-05C10281C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A0694-6EF1-4F54-A367-99CEAC6BE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84736-AC98-4936-B28E-13A5062F1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AF0AE252-C254-458E-8E69-7334EE3740AD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191120" y="5029200"/>
            <a:ext cx="451944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NDC and TSI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SIG to protect AXF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riving a secr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nssec-keygen -a ... -b ... -n... nam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figuring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, same syntax as for rnd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key { algorithm ...; secret ...;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ing use of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erver x { key ...; 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ere 'x' is an IP number of the other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4370E-9416-4FF0-A3B5-03314846638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ation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Prim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46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35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master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3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Second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35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46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slave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masters {10.33.40.46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27280" y="5907240"/>
            <a:ext cx="72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gain, the secret looks okay, but is purposely invali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A4EC0-F334-4521-A9CD-934E002B572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IME!!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is time sensitive - to stop repla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ssage protection expires in 5 minu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ke sure time is synchroniz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testing, set the 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operations, (secure) NTP is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5C542-E8C2-4E52-A5E8-4BCFCF5A1ED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uses of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was designed for other purpo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tecting sensitive stub resol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s has proven hard to accompli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ynamic Upd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iscussed later, securing this relies on TS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01C18-52BB-4890-9F37-051B8A0F7C2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ternatives to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G (0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blic key approach to same servi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potential, but not much experience y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ans to start with SIG(0) and wind up with TS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so, Microsoft uses this with Kerberos via GSSAP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754F8-4A04-427F-B609-1242EBC9ED8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RNDC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mote Name Daemon Controll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and-line control of named daem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ually on same host, can be across ho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2ECE9-FE7F-4166-B0C7-8B045DE8FDB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ing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"rndc-conf" generates lines to be added to two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ndc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4EB9C-18A9-4176-B997-77B926C216C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nabling RNDC in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key defin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 rndc_key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secret "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Y7/uIiR0fKGvi5z50+Q==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"; algorithm hmac-md5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arning: example secret looks good but is invalid (don't copy it!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trols statem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controls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inet 127.0.0.1 port 953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allow { 127.0.0.1; }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s { "rndc-key"; 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B2090-5FC8-4E3C-886A-C476BBC1041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an rndc.conf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etc/rndc.conf specifies defaults for rnd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.g.,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key "rndc-key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algorithm hmac-md5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secret "dY7/uIiR0fKGvi5z50+Q==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key "rndc-key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server 127.0.0.1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port 953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05687-2BAC-4BDA-AF4D-AB1EA9C4A87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can be done with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op - kills serv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us - prints some inform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s - generates stat file (named.stat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reload - refresh zone(s), w/varia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trace - increases debug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flush - removes cached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commands in the AR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46C5C-82AA-41CA-A966-70214693512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TSI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mechanism for protecting a message from a resolver to server and vice vers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keyed-hash is applied (like a digital signature) so recipient can verify messa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a shared secret - both sender and reciever are configured with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3778D-8960-4948-B7D8-91839CE3715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SIG and Message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"/>
          <p:cNvSpPr/>
          <p:nvPr/>
        </p:nvSpPr>
        <p:spPr>
          <a:xfrm>
            <a:off x="2895480" y="18288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Hea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2666880"/>
            <a:ext cx="2438640" cy="83844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Questi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350532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95480" y="43434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uthorit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5181480"/>
            <a:ext cx="2438640" cy="91440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ditional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&amp; TSIG dat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1752480"/>
            <a:ext cx="3353040" cy="3886200"/>
          </a:xfrm>
          <a:prstGeom prst="rect">
            <a:avLst/>
          </a:prstGeom>
          <a:noFill/>
          <a:ln w="38160">
            <a:solidFill>
              <a:srgbClr val="01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97480" y="2743200"/>
            <a:ext cx="15494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’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iginal Message Forma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52AE4-1047-4BB5-9E48-4C88E8A8B9A6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Secre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name is given to the key, the name is what is transmitted in the message (so receiver knows what key the sender used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secret va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value determined during key gen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sually seen in Base64 encod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'Looks' like the rndc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 uses same interface for TSIG and RNDC key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93F4D-1B9F-4560-A255-2B68D55259D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1T16:17:50Z</dcterms:created>
  <dc:creator>edward lewis</dc:creator>
  <dc:description/>
  <dc:language>en-US</dc:language>
  <cp:lastModifiedBy>Marmaduke Wildebeeste</cp:lastModifiedBy>
  <cp:lastPrinted>2003-02-20T08:17:40Z</cp:lastPrinted>
  <dcterms:modified xsi:type="dcterms:W3CDTF">2003-06-01T20:50:02Z</dcterms:modified>
  <cp:revision>25</cp:revision>
  <dc:subject/>
  <dc:title>PowerPoint Presentation  -  RNDC and TSIG</dc:title>
</cp:coreProperties>
</file>