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10730"/>
        <c:axId val="54957004"/>
      </c:barChart>
      <c:catAx>
        <c:axId val="312107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57004"/>
        <c:crosses val="autoZero"/>
        <c:auto val="1"/>
        <c:lblAlgn val="ctr"/>
        <c:lblOffset val="100"/>
        <c:noMultiLvlLbl val="0"/>
      </c:catAx>
      <c:valAx>
        <c:axId val="54957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107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280-6268-4F9D-897B-E58D898E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56C-E759-4342-B121-6C3D160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E4D-4EDE-4E64-94DC-F7F062C5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49C-ED96-4A6A-AB96-5B9F3EB3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1F3F-E634-4F12-893D-838C188B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C34-7F5C-4130-948B-6F6A7482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B30-831F-4AB9-985E-9AEC42F0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CD7B-7513-47EB-91E2-56CA5384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BA3-95E3-4B4D-8885-8D889BC7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0B29-0B1A-4C17-8A25-C71611A1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11D-FD28-4346-93DB-9EDF781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B37-411E-4737-8F03-E8B8AB1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6F4E7-36BF-4E0D-960A-6AE6C360A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