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45363"/>
        <c:axId val="10571887"/>
      </c:barChart>
      <c:catAx>
        <c:axId val="95645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71887"/>
        <c:crosses val="autoZero"/>
        <c:auto val="1"/>
        <c:lblAlgn val="ctr"/>
        <c:lblOffset val="100"/>
        <c:noMultiLvlLbl val="0"/>
      </c:catAx>
      <c:valAx>
        <c:axId val="10571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45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760-1F62-4AA0-9CD7-333701ED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BBC-F842-4654-A7C5-CCE294CD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829-8A6D-4B97-986B-13C4845B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711-EA27-41A1-B867-FF5D7B61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983-8F1D-46C9-8725-7139AE0F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3E2-610A-4106-9257-07558AB6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11D-9D22-4514-80A6-4C9F4159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3C6-86D6-437F-8153-50CE645C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FE9-0406-408B-803F-02408AB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475-FBFB-4FB2-AD68-0E420C6F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8B9-35A1-4258-B871-40E6EC9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BF7-079D-46D5-AE07-DBCEEF99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7DCDB-4025-4A47-B133-8A0CB343D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