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100317"/>
        <c:axId val="25573745"/>
      </c:barChart>
      <c:catAx>
        <c:axId val="261003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73745"/>
        <c:crosses val="autoZero"/>
        <c:auto val="1"/>
        <c:lblAlgn val="ctr"/>
        <c:lblOffset val="100"/>
        <c:noMultiLvlLbl val="0"/>
      </c:catAx>
      <c:valAx>
        <c:axId val="255737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003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5B01-92A8-4372-B5C6-255A7B28C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AF37-80E2-41FB-B2C3-D6B58D7F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B93C-4472-45DB-9AC7-265A720E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C5B3-C973-4C9C-8DE1-828119B5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69F3-87C6-4427-895B-21482D57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4A10-54F1-4329-AF34-A227F526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799-935D-4A12-8D33-E78E2F9C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3C4B-DBDF-4851-BE74-D40BD737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7B97-8DC1-4C19-9DC5-0D2185FC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E9C0-BE9C-4C9F-A6E4-BBDFA034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06D4-063D-44C4-8ED8-EEBB29F9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2D5B-E1F9-4794-895C-FCFE6DAE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21655-69FD-476A-9185-679265EB88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