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015237"/>
        <c:axId val="21304208"/>
      </c:barChart>
      <c:catAx>
        <c:axId val="750152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04208"/>
        <c:crosses val="autoZero"/>
        <c:auto val="1"/>
        <c:lblAlgn val="ctr"/>
        <c:lblOffset val="100"/>
        <c:noMultiLvlLbl val="0"/>
      </c:catAx>
      <c:valAx>
        <c:axId val="213042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0152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220C-55E9-42C3-B4DB-55DD52151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B08E-9B26-45AB-ACC8-76A3164E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6511-EC8D-42DF-B9E5-09682C03A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7194-D5E6-411C-B329-EAA27B36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733F-D878-400C-BAF6-BD03DB4D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C2D8-A813-4B3B-83CF-2B7FAFBBA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F08C-A1C4-4563-9366-CAE944C2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791F-CD77-40B6-923C-CBC60F82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2544-DF7A-4CE1-94B5-C5D08EFC2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99D6-9D93-4A60-9396-BE3A23E5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6CA8-0AD8-4CF5-9727-8CAC0663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DB2F-8685-46FE-8FA1-66921983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3EFBA-6269-40CB-9EC4-C6170FC158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