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60613"/>
        <c:axId val="20229757"/>
      </c:barChart>
      <c:catAx>
        <c:axId val="84060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29757"/>
        <c:crosses val="autoZero"/>
        <c:auto val="1"/>
        <c:lblAlgn val="ctr"/>
        <c:lblOffset val="100"/>
        <c:noMultiLvlLbl val="0"/>
      </c:catAx>
      <c:valAx>
        <c:axId val="20229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60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6A1-D794-4989-AC1A-9C55A7B4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AF5-0509-43C1-8B96-AD942079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2C0-6256-483F-9C2B-1E81662F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E2C-B0A5-4E49-9035-641AA81A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E5F-9E95-49FF-B7A5-E61B83D5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D24-D3A1-4B30-BFF1-DD05DE81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BEB-29E0-4533-89F3-A25E8943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CA3-CA8B-4474-9368-7AD00054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441-76F2-4719-8B7D-601453CF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511-9D95-4227-9078-203BE32E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DD0-CACE-4DF1-8B85-CE161890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6A0-D817-454F-ABD0-F291CDF5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AE417-951D-4BB7-813C-72E74A68D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