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13589"/>
        <c:axId val="67647229"/>
      </c:barChart>
      <c:catAx>
        <c:axId val="349135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47229"/>
        <c:crosses val="autoZero"/>
        <c:auto val="1"/>
        <c:lblAlgn val="ctr"/>
        <c:lblOffset val="100"/>
        <c:noMultiLvlLbl val="0"/>
      </c:catAx>
      <c:valAx>
        <c:axId val="6764722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135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37FC-A208-47BB-8E5E-0C2487319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BBE-FE48-45F4-8C6A-1FAC0E58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00BD-48DC-4C6A-9E50-58F38EC6C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5F24-F57E-4877-AE2E-86841EBB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7CAA-ECA3-4274-A923-584EFD15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126-ED22-4BB3-B5C4-E8FC38563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1D39-9CCE-4E7E-9B3B-09B1745E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6E67-00A4-4828-B6DC-E07FBE9F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60A6-7538-4650-9400-756531018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A743-DFA4-4519-BA79-3960C9B3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E63B3-702E-4BF4-9697-3B9EABD99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E8BF-0B13-430F-ACFA-4961EBB5E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59647-5EEC-4C27-8904-BAC368A705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