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235"/>
        <c:axId val="11542676"/>
      </c:barChart>
      <c:catAx>
        <c:axId val="504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42676"/>
        <c:crosses val="autoZero"/>
        <c:auto val="1"/>
        <c:lblAlgn val="ctr"/>
        <c:lblOffset val="100"/>
        <c:noMultiLvlLbl val="0"/>
      </c:catAx>
      <c:valAx>
        <c:axId val="11542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04B-A784-47A7-B4BF-B7C76136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F70-8C41-4304-8D9A-ADC7AA79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21E-F304-4FD7-9AE5-8061022C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05A-8204-46A8-8CDB-1987097E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58C-168A-4144-8B95-06B16687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92C-66A0-4A54-B4E7-11A1DEB0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F94-C159-4186-A8AF-C9ED2301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C34-D27E-40CA-985E-A3668CC4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0D3-AAB3-4C2A-9ABA-D4EF9A52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2FA-4076-4F6D-8152-81BAA1B1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DD1-6AAD-4A01-A0DE-B87570E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20B-C5F7-4A80-8FA4-AFC81714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3FD1F-BB40-4FC0-AC05-7FD5DD99F8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