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484122"/>
        <c:axId val="75038700"/>
      </c:barChart>
      <c:catAx>
        <c:axId val="124841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038700"/>
        <c:crosses val="autoZero"/>
        <c:auto val="1"/>
        <c:lblAlgn val="ctr"/>
        <c:lblOffset val="100"/>
        <c:noMultiLvlLbl val="0"/>
      </c:catAx>
      <c:valAx>
        <c:axId val="750387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4841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56F9-FD74-43D1-8822-795C5CBEC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2B93-FF3B-45C3-BAC9-24C504A9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2193-6CE9-4C78-8DB8-96439902D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88BC-9942-47A7-B199-587061388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01A9-DA26-4779-AEAB-BD175142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81EB-7924-4EF5-8D84-F2F05A8B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15DA-6CB4-4582-B9A1-6CF225E1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E56F-24D2-4D8A-BA10-84095B6C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DAA7-C21A-49B7-ADF4-9CCCE377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061F-9745-4CCF-85F5-71F0EE02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ACCB-AAA2-4ADA-BF2E-62AF4BD9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7A6B-030A-46D5-83F6-4C34670A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92CE9-5F4A-42D2-85E5-2FB81AC415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