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32393"/>
        <c:axId val="48215846"/>
      </c:barChart>
      <c:catAx>
        <c:axId val="36532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15846"/>
        <c:crosses val="autoZero"/>
        <c:auto val="1"/>
        <c:lblAlgn val="ctr"/>
        <c:lblOffset val="100"/>
        <c:noMultiLvlLbl val="0"/>
      </c:catAx>
      <c:valAx>
        <c:axId val="48215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32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947-D4D4-4351-926B-406566EF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112-F879-4C4E-8BA3-0D645E38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262-2E2B-4C8E-8308-4802FC5D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A6C-F1FB-4577-A875-25162873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690-DFF0-46FA-A9FB-C9ECA7C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C7E-C03D-4BE0-8B20-8A7AC41F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655-3062-4F9F-8AB1-9D4851A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729-7603-4E9A-A2F1-6277065E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804-1BB3-4F24-82EB-551736B4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90A-012A-4122-9673-61ACC4E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95E-58FD-48AA-8509-86E9E3A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283-D460-4B21-A0C2-4647C84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E3474-1590-46BB-B73B-87DE030D73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