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707391"/>
        <c:axId val="30492055"/>
      </c:barChart>
      <c:catAx>
        <c:axId val="537073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492055"/>
        <c:crosses val="autoZero"/>
        <c:auto val="1"/>
        <c:lblAlgn val="ctr"/>
        <c:lblOffset val="100"/>
        <c:noMultiLvlLbl val="0"/>
      </c:catAx>
      <c:valAx>
        <c:axId val="304920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7073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C3DD-9FDB-4950-9C29-35583D084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807C-4C46-437C-96DC-B75A773F1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0092-33C4-4289-8500-CEC371DF9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453D-D655-417A-B072-293687DAA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155A-C06B-4069-AB91-072DBEFD6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81FB-E288-4135-87DA-3B83A7384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E054-9FC7-4E94-9596-C730B7381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02EE-665B-4B9B-ACEB-B065E0B6E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778A-D803-4F58-AE10-46B17EC2F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4982-EC99-42AE-93B0-86439187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6F94-268D-4C22-9AED-2EA8F450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E05E-E938-4555-A1EA-04DB1A8B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B63473-8C8D-4BDC-A897-D25BE7A3628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