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06827"/>
        <c:axId val="29892630"/>
      </c:barChart>
      <c:catAx>
        <c:axId val="15806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92630"/>
        <c:crosses val="autoZero"/>
        <c:auto val="1"/>
        <c:lblAlgn val="ctr"/>
        <c:lblOffset val="100"/>
        <c:noMultiLvlLbl val="0"/>
      </c:catAx>
      <c:valAx>
        <c:axId val="29892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06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2E0-BC7D-46B2-891F-039446D6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975-C7DA-4CB1-B014-B813814B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24E-6701-4989-A36C-60BB7B45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054-A4E5-416C-B1FB-359B7E2B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31F-0FB2-4010-B23E-65244A45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911-AE59-4A17-91DC-07B90FA7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5A4-2CAE-4F1B-8E79-372F31F9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08C-4FC4-47EC-BF07-D6A533B3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E2F-132C-42D9-BBA7-DB7897C7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671B-62DE-4FC6-A4A9-A7D3DC3E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F00-4877-4D05-8228-E0D6D1E3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5F2-F058-4461-B407-0F56E7EF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7BC7E-F0B5-4D51-88B5-DC402772AC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