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27913951-C38C-4910-8C38-A92666AB6A83}"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FD4F951-6D34-4E1C-B9F7-672C3E665D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E840284-6FA2-4B7D-8836-BE985B7DB9F7}"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1D32E33-9030-42AD-89A3-F51018C08C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355FF70-3DD3-4ED6-BEEB-3D0405F996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3E9D3E-9337-47D7-871A-220C925A76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A162546-1383-4F52-AEE6-4D8B175C289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94D1D57-968C-45F3-8E84-ACE0EBDA5B5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0C4063D2-7D44-4786-ACEB-A144DC3361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AB7C84C8-0F0B-4352-A15F-5660BC8C754B}"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5B102F9-FD04-44B2-B0E9-643C734DFDD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27CD066-4446-4592-A647-418BEB8A8C7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BA71242-7266-494D-8BEB-C5F9CAEC678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559D325-42AB-42F3-AD57-19BD077500D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1260AB-FEF6-45E4-85B9-03FDB9A46265}"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F151DF5-ACAB-4C5D-B5FF-6F1EEA17AF5E}"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85152C-DEF1-4458-885A-481ED85B94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C389F7-1304-4617-A175-FADB1FF7782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D8782D2-EDE1-4226-8E4D-BCAB2DA5F4DB}"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00E1B289-E02D-4C92-AF7E-7DB6E6B520A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B17B014-C50C-407B-97F4-A84AC2AD37A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AD31B20-711D-4F89-8829-5E7DD2E79022}"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8C8A84C-71CC-46ED-8755-C3566224ED77}"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B0ECEE01-2C85-4695-ADC8-158FBD76C69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31C3E44-FADD-4399-BE6B-F06DC31016B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3292BD4-4355-442A-856A-C6C0C41FA1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068D4F2-C082-4BB3-9293-D87DF83ED8D2}"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34283A-92A7-44A3-8B38-E7C21088F72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C525AEF-D308-4F5A-8F55-5654D90D4F9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17DF61D-F227-4A7F-9B84-305AF658EA7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F69095-4F86-4EFD-AD40-DA4B8B75AD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EFC3FD-B62E-4EAF-ACB9-19D2F53E1F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C3FCF0DA-DA18-4EBC-83AA-85F234F59D73}"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88F07F2-6095-4921-B9B2-04CAE3C295EF}"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DA1A6D3C-B8D0-45F8-8CD4-3E447374215B}"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9985A0E-987B-42A6-B706-2DFC22239E5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25E10DE-36C0-4E13-A930-C1ADFA528DDD}"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33AFC035-0C99-449F-8081-FF04FAC0795D}"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C528806-7C03-4DF8-B7CB-43E37F71A172}"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93F617A-D8B1-4569-A614-FCDE5C94994C}"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AB5EF5C-A5DB-4FE3-85A6-3F09DBBBF9FF}"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057E534-467C-4DF0-8D6E-009BF241DB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126275D-33F8-40D6-96B7-B59BC5EB99A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1722F5E-9FFC-4591-954A-21AE4B3898D3}"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C4163534-5509-4F5E-81A6-C7281C24E7B6}"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9A532879-2CC6-485D-B373-90D437F821A0}"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BE1C37-B986-43F8-8807-EDABC3B2C4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1175825-7F67-4F14-BB45-92C64984814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A4F62F62-D2AB-403D-BF39-1BC88B2BC095}"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824BF6E-7178-4DA2-831C-DEBAD98DA5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D61CC477-AD99-4571-A079-D7D80809818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49B2E2DB-ECF1-4C56-9972-C2585183391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6EC1C92-E750-42FC-88F1-07184AA7C87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24C54E16-ADB0-4729-9DBC-D1D40155398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C5BE142-278F-42A0-85FE-0B6C6C0D950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8FDAE5D-E90D-499F-89B0-CA0DFC6C32B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BDF9D62-DD98-4E2B-97EE-D3BA9C433692}"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4948C8B-F6EB-44B9-B078-9E2527CC03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562B05D-EA3D-442E-BF33-9BF44E56FE1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0E1C73B-9459-48D3-969E-16ACA4F30BC9}"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E8AAA7C-84A9-4CEF-B053-011E4AA764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C78CE79-92B6-4A43-A422-A2279997704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0E4BB66-D7EE-41AF-809D-249CB80C2245}"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A8BE0DE-12F6-42BA-AE6B-76389B1FAF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A7976195-619E-4B9B-8141-07C6B90C776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16199D70-32FF-44A4-A9EF-9DDE393D2DD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AC005FCE-8B89-4ECD-95B7-031FD9124F3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B7EDEE9-4F84-4D57-854F-C34EEFA6DF6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B108938-B269-4B63-9F40-23936D9E322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8578C5E-88BA-43C3-A02B-A9D2D5409BE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8B0971B1-BB2B-47C9-B8EF-E21C83B166E9}"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BC492885-3C47-4109-8B8F-86F1406CCFC8}"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BFD17522-6222-4A7B-A632-D46E8974BC82}"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7E0DFFA-F05B-4F24-91E5-7B33E113120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36BA60D2-B326-4F65-B72D-BBA316E20EA3}"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46F0C9E6-EC9D-4A71-B8B4-5BC663FF14A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4C71F0AB-F2DB-4A1D-8340-10897070769F}"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0775974-28B5-4194-91F2-6A438DD13D7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6BCB5C0-7CA6-4121-AACA-96DA6986513C}"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90023B-FF51-48A6-A83C-652405B0DF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0B88B2-C0B1-45E8-B4B3-E6731CA15C8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A0948F2-A503-42DC-A688-6FE5C11389F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880E3F0-B02E-47CB-BEBF-160660FAC07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F6B6A69-F17C-4EC8-9CA0-79A781E23766}"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CDB4F32-4EF4-4397-9D95-5B3FD3EEA68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F68ED478-B474-4BA7-B6FC-1E73862899C1}"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B3DE7A8F-DAB7-45D3-B5F9-E888E35461CD}"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8B8AFA6-ABF1-4EA6-89F5-3064B9ADEF99}"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21FCC42-2B10-4693-8EF3-295761BC188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A62A849-E2B5-4110-B4E8-58C95996225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9872A7E0-3665-439A-BBCA-3716F9E603B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B6EB449-E42C-461A-A771-9BF27A657C9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C6A28B3-7E5C-4C44-A7FE-0C1DAB92EC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6B6855B-409D-440B-9168-E0ADA0DA42D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81019F0-0FB7-4548-96B4-589D31016D2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D0B1CC6B-549C-4E26-849B-9F18DA29894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3AB52F60-B471-4648-A3A8-B9C62F9BE47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621F5CE-1E65-432A-8CE9-C28FBF0CA14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FF03F58F-F433-40DA-A454-528413CF269F}"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77A90DB-D83F-4B3B-B668-93F74E8DEA7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6204C7-F702-4F17-9BF8-E8D6A4897B0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B5CC95CD-4CDF-43E7-A62F-DA6D3D56AFE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CAF9A-8B6B-4CF0-9FC7-35571274A6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BBCD5E78-05CB-4BDF-8751-5355C82A7EC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75ACDC19-D3AA-466F-8D41-DF086B12F48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84F8149-4D13-421A-A9DB-FEBAB335E43E}"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1618EC0F-D7A9-4B75-8120-FAF82AE0809A}"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EF5E2AF-87CE-426C-803E-A2780C44760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0180A3C-186E-4B41-B0B4-DBD69CFB1D4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90F2DB8-7850-4C65-8C23-8A3A299A24A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9351564-46C3-4CE5-B1EA-659C801586A8}"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BAEDFAB4-0806-4887-AF09-5946AE48B310}"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281A77B5-9B2E-4E25-A7BD-96D6DC1ACB39}"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0178E1D-A7AB-431A-948E-7A607EE8863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906827A-5B7A-4102-8BCD-37683914F4D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B3EB8DF-A08F-4C52-B030-3EFBA017EDF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CBEEE9CE-EB1F-44AE-B4AD-E518D45E09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B3BD680-A9DF-4921-BEEA-F5935E7CA7B6}"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85121D38-95D9-4D1E-A09E-DA07B77C60FF}"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892F355-0D8F-4D85-AEBF-4A71CF1AB9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6EEDE93-33B9-4602-95D4-90274EF929A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07A75075-D51E-47A5-AE01-C45BD69D761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54129CF-3B8B-4FC5-B26F-2B3C3C37004C}"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05D73D4F-C336-4A48-9159-BBFB0D25E39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6393096-2915-41F6-9C7A-586834CEC4B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8BBF8AC2-A352-4479-A9B6-27994436F1C8}"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C37EA7-5A8E-4F1B-A10E-5B072C3043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EA4F3E-A5EA-4FA8-85AB-5335BD534DF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B2EE011-B813-4E3D-BA8E-FDC8D245CE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2314203-E807-400F-AE8E-D2E1638D58A7}"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075F36-0599-4CCA-943E-153615BA9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6FE0170-8D5E-4F76-BF0A-9982F52B0CF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F02DF04-748D-49C4-8741-0F46BA894F1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35442AE-1EE9-47A6-82CF-7AB891EB7DA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D52508F-D910-496F-B249-63A59170221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0F5AE79-7F75-4B1A-ABAE-2CB948BB273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025B7FC-40B5-4C77-947C-12EE10DABFA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28CF2A4-D607-4D41-AEAF-E881C433ADE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963AFA-681C-4386-B210-C0DB2C51A83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D6F4DAC-E1EE-4C1E-92D3-4EFEE263A9F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5FB2E51-3C95-4A37-8C5B-D27AB4B3AB7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623C161-A832-4886-8E86-F5214F0134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2B00291-A005-4311-8029-263A646BE02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5FEF914D-4B96-4DEB-BD15-86B9EFE7C47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0A58386-AF9B-4364-B2BF-D40A0B7DA06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935411A-10BB-4F84-B5CC-46845F59942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1C9A4E5A-5FEF-498D-AB0E-09F4EB14BB4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1DA6AB7-6AAC-40EE-A9FE-C1473D44903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47C01BD-0CB6-46C6-A63A-BD0CC22D434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822DE0-419B-43E1-983C-AA2971954A1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69D4792-03CA-4C89-AE3E-6716C0A3301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ABA32E8-F6DA-4386-B881-7F10EFF0E73D}"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C32CB4-2AE9-425A-8451-D1F82F1B808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9C5F3383-8124-4DBE-99B3-BE724AD4DD1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16F6E30B-E00F-40F8-8D97-8B7B999C278E}"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60CAF94-A04D-41DB-ABD0-B22241C23AD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9CD04C9-795B-4FAE-B84A-FAD4487A689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13E3C54-4755-4CB3-B10B-873A191EF11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C515B1F9-46F3-4BF6-8A3D-9E3420287B6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CF8BD87-4850-49EA-811C-795843BCE5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26D4468-6589-461E-BB79-D59627258C6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4DA2595-1771-4D9A-843B-BEFE5D8E0FF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0F7AF14-FED4-4F26-BF8F-BE3C67A413E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D65688C-3BEB-4799-8964-2B77089885F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0C7118D-2221-4630-A9BC-590A7AC70FC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6C0666D1-3549-4283-A014-9621566DC71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8D825C-9C16-428C-A99C-FE1520F98238}"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88CE99BA-9B6F-4CF1-AA93-27BB687A23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FF6BF90-77F3-4424-B3F8-2E0FA1E727F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8075DE49-5878-4CD0-AA08-DFD68F67AD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92237C6-3152-4785-9AF2-DF3C9C19891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CD44A95-17C4-4781-8A68-68D0838F873C}"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30F2D4A-0ECB-46A5-947F-297C8F7F4CB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E51C49C-3F2E-4F40-A63E-FBBC7BD7C5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05962C-E13F-4B9C-AA11-E8EA7E892A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9EC4050-DD66-4D98-866B-42F2818D629E}"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CB743A1-4E02-4B9E-855F-C586C4B7EE7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490B451-E4FE-4AF6-A037-72D2C31766B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CEB414E-5B95-4B5C-AF22-7A3C2F40616B}"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7A0A231E-8216-4EF3-99BA-68DAA2E63A1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A7146DE-86CC-49F7-89DC-35F68CF408C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EA95363-7468-4B72-927F-FE05A96DD25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0E85F99E-5318-4CB8-B67A-D46CD4B694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2FE2BC-A9AD-460F-8270-3203A6052372}"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E4E3078-8278-459F-9288-ED6F1386346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FA745C-DE34-4DBF-9407-D71BA69679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EF13E96-5128-42FB-9149-5780F93A32B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DB4B76B-4E24-43D3-B9BB-BC9DEB89E12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42067A3-9BE5-4737-99D9-8F5DEAFB61A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C9F034-1BA5-4663-B576-08B2FF7E4AC3}"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9F7C38B-2CA8-47D5-8B39-6E7C4918ED5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BF44180B-E470-4A33-9734-76694653DE9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3B2820B-5C47-496F-BCD6-4A20E2BB52A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A36DD7E-09B2-4EE3-AFE7-4733F77841D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21E3F8BF-AE76-4B63-96D8-F10F1D6FE89E}"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01939AA-FAA6-4449-B366-8F09C66320B9}"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8A4C043D-8D65-47CD-BDEE-BC48C4FAF996}"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EF35137-DBBC-4349-9212-92E2B762723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EB40991-D06E-4818-A7CC-BCA03035DE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CDB7E32-8796-49ED-B6E7-E6755D97EE1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A4ADD56-823A-4E0C-82EE-5DB03282C6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0B44F9-AA53-4FAE-94EF-C2584A5234C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DB58393-30B8-460E-B934-D7062516D65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C4CB698-BBB5-4AAC-83A8-5AAA17FA222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473FEB-495C-43A4-B071-0E3C5CDC025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0818742-77EC-49FE-B2F6-08419395AEE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7EA3338-C880-48A3-8FC0-285D37BF0DB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8FC37CF-7CBB-4172-8CE2-460D7C8409E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EF7C190-10B6-45BF-8DC8-2D3ACA74F5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952A0F-10DE-40F9-A796-64550F945F9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97F9BEF-A349-4EC5-92E7-ED62A925770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5A20949-0E4A-468E-A1AE-FF55F176FF5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