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52393"/>
        <c:axId val="19648800"/>
      </c:barChart>
      <c:catAx>
        <c:axId val="203523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48800"/>
        <c:crosses val="autoZero"/>
        <c:auto val="1"/>
        <c:lblAlgn val="ctr"/>
        <c:lblOffset val="100"/>
        <c:noMultiLvlLbl val="0"/>
      </c:catAx>
      <c:valAx>
        <c:axId val="19648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523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63A-2270-489A-8DA0-EAAAE272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FF8-3728-4A47-BBBB-7A0D0E2F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E33-D235-46BE-8855-88F68AC3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30A-66B5-467D-94F7-1564AF4A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0584-AC5D-438D-8F57-FD359CFC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6B08-32D7-4F22-86D5-338AA0FD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D45-09C7-48D5-98A4-CC62F129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32F-7B78-4AFF-888B-668F1E1D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D11-EA8F-4EB6-B1F5-40C6C734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EA4-DC3E-4F6B-876E-DAB2E295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823-6445-4947-8C15-4D9A3640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1D9-D342-4FC2-BDFB-C1029E5D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05D40-9F3B-451F-9F27-CEABB9E732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