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37555"/>
        <c:axId val="3795775"/>
      </c:barChart>
      <c:catAx>
        <c:axId val="79537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5775"/>
        <c:crosses val="autoZero"/>
        <c:auto val="1"/>
        <c:lblAlgn val="ctr"/>
        <c:lblOffset val="100"/>
        <c:noMultiLvlLbl val="0"/>
      </c:catAx>
      <c:valAx>
        <c:axId val="3795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37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A69-6460-4E4F-AAC5-12E29564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209-6DFB-45F8-A2FF-3DB414B8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439-1EF4-41E2-B5F7-ED8F70CF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E76-A855-4733-8FE9-490FB4F8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C77-1877-4971-A408-7B886667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E3E-D611-4C82-9F2C-22B63FE6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2B9-79A4-44C2-85EE-3560C3BE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9BA-6C9B-45CC-A272-528A4D1C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870-4123-4413-A88A-59787C70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E6F-7FA2-45C5-9088-DF3BFEB9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750-4CF6-4732-BF11-DACC2E2C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AB9-75DC-4230-95C1-700C94DB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E6A26-5D72-4E24-BAC2-04A7E179EB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