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24401"/>
        <c:axId val="47596475"/>
      </c:barChart>
      <c:catAx>
        <c:axId val="54624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6475"/>
        <c:crosses val="autoZero"/>
        <c:auto val="1"/>
        <c:lblAlgn val="ctr"/>
        <c:lblOffset val="100"/>
        <c:noMultiLvlLbl val="0"/>
      </c:catAx>
      <c:valAx>
        <c:axId val="47596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4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660-7EA8-4F27-9036-5C0AFE28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901-D84E-4480-A260-A58CFD58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E45-AF15-46ED-91BC-8F884B4F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34F-24CC-4394-BF4A-8347E0E4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8CA-464E-4330-B636-9C00B87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586-C067-4B70-9ABB-CF265CC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399-4F79-40FD-A5B2-96762A0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2BD-723A-40D7-8D58-43FDE79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EF1-F1DE-4702-9F52-8B4A708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A80-F7D3-43D2-A347-DE16862C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360-E3E4-4370-BCEF-841C4D8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9BD-F8AA-4CA7-8DE5-F708D3FB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C77A-4200-4E1C-B4B7-EF9376ED73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